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B5F-3DBC-4119-99E5-03408D1E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658-E483-44BF-B7FC-FB259AD4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451-97E7-442C-8AD8-839353DA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FB8-C815-4EEA-A9D8-48A277F5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96E-032B-4DB7-8452-EC5ED4B9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5ED-B7D8-4681-8A71-8B8034EB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6E0-AB0F-451F-BC1F-8F658757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6D7-F0F5-4B1D-B577-8C08F593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FC0-9A14-4280-A436-8F958865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516-EF32-485F-8833-DA61DC78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A84A-209C-45FF-B7A4-A05F4123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F56A-F72F-47BB-9A12-30C4A818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9A6F-C546-4E4D-9431-AE6EF0CB67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年级  高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1BU2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Karl  Marx   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26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星期一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 15:40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讲课教师   凌蕙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123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133720"/>
            <a:ext cx="8915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2. When Marx came to England, he 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knew little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knew English quite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knew some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666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981080"/>
            <a:ext cx="769608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Engels praised Marx for hi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glish after h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read Marx’s let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read his articles in the news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read </a:t>
            </a:r>
            <a:r>
              <a:rPr b="1" i="1" lang="zh-CN" sz="3600" spc="-1" strike="noStrike">
                <a:solidFill>
                  <a:srgbClr val="993300"/>
                </a:solidFill>
                <a:latin typeface="Times New Roman"/>
              </a:rPr>
              <a:t>The Civil War in France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905120"/>
            <a:ext cx="8153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Marx was able to use English free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ecause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he wrote a great book i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he used to live in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he could write to Engels in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5800" y="222120"/>
            <a:ext cx="792468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28600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1. Marx had to leave his homeland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in the year 18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when he was yo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when he was in his fif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28600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1. Marx had to leave his homeland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in the year 18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B. when he was yo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when he was in his fif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133720"/>
            <a:ext cx="8915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2. When Marx came to England, he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knew little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knew English quite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knew some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133720"/>
            <a:ext cx="8915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2. When Marx came to England, he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knew little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knew English quite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C. knew some English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666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981080"/>
            <a:ext cx="769644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Engels praised Marx for hi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glish after h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read Marx’s let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read his articles in the news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read </a:t>
            </a:r>
            <a:r>
              <a:rPr b="1" i="1" lang="zh-CN" sz="3600" spc="-1" strike="noStrike">
                <a:solidFill>
                  <a:srgbClr val="993300"/>
                </a:solidFill>
                <a:latin typeface="Times New Roman"/>
              </a:rPr>
              <a:t>The Civil War in France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666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769608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Engels praised Marx for hi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glish after h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read Marx’s let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B. read his articles in the news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read </a:t>
            </a:r>
            <a:r>
              <a:rPr b="1" i="1" lang="zh-CN" sz="3600" spc="-1" strike="noStrike">
                <a:solidFill>
                  <a:srgbClr val="993300"/>
                </a:solidFill>
                <a:latin typeface="Times New Roman"/>
              </a:rPr>
              <a:t>The Civil War in France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57400" y="1447920"/>
            <a:ext cx="5715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7200" spc="-1" strike="noStrike">
                <a:solidFill>
                  <a:srgbClr val="cc3399"/>
                </a:solidFill>
                <a:latin typeface="Times New Roman"/>
              </a:rPr>
              <a:t>Unit 21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zh-CN" sz="7200" spc="-1" strike="noStrike">
                <a:solidFill>
                  <a:srgbClr val="cc3399"/>
                </a:solidFill>
                <a:latin typeface="Times New Roman"/>
              </a:rPr>
              <a:t>Karl  Mar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828800"/>
            <a:ext cx="8153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Marx was able to use English free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ecause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he wrote a great book i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he used to live in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he could write to Engels in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828800"/>
            <a:ext cx="8153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Marx was able to use English free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ecause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A. he wrote a great book i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he used to live in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he could write to Engels in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133720"/>
            <a:ext cx="8076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1. Why did Marx leave 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homeland?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886200"/>
            <a:ext cx="716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e was forced to leave his homeland for political reas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362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2. How many countries did he go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after he left German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34340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re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rance, Belgium and Engl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36232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How did he feel about his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when he first got to England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038480"/>
            <a:ext cx="73915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found his English was too limited / was not good enoug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13372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What did he do to improve 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glish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657600"/>
            <a:ext cx="8153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worked very hard and so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gan to  write articles in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or a newspap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286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5. Why did Engels write to Marx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58128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wrote him a letter to prai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rx for his good Englis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1143000"/>
            <a:ext cx="8610480" cy="48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阅读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快速阅读课文的后两段并判断正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251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Marx went to Russia in the 1870’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2. It took Marx six months to lear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ough Russian for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rticl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429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5410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870120"/>
            <a:ext cx="861048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阅读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快速阅读课文的后两段并判断正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Marx gave some advice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learning English in one of 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ook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5029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1219320"/>
            <a:ext cx="861048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阅读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快速阅读课文的后两段并判断正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You can not master a foreig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language unless you transla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it into your ow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952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43200" y="8380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Unit 21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讲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1178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、导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436920"/>
            <a:ext cx="7315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ad the dialogue quickly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nswer the ques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22096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2362320"/>
          <a:ext cx="7315200" cy="294588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d in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ied (languages):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 close friend: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90720" y="9907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uch do you know about Carl Marx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rmany, France, Belgium, Engl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35268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ench, English, Russian  (German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46483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ge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914400" y="1523880"/>
          <a:ext cx="7315200" cy="4229280"/>
        </p:xfrm>
        <a:graphic>
          <a:graphicData uri="http://schemas.openxmlformats.org/drawingml/2006/table">
            <a:tbl>
              <a:tblPr/>
              <a:tblGrid>
                <a:gridCol w="3200400"/>
                <a:gridCol w="4114800"/>
              </a:tblGrid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of birth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 of birth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ote article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: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4343400" y="17524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y 5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 1818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7432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rman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581280"/>
            <a:ext cx="4343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igh school, univer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 Germany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7242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using problem,  the hard life of the peasan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762120"/>
            <a:ext cx="62485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听力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685800"/>
            <a:ext cx="74674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作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朗读课文，每日三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并记住新单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做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80—2    P81—1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83—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网查找有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Karl  Mar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英语的资料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066680"/>
            <a:ext cx="80010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. What are they talk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about?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2767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y are talking about English stu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1066680"/>
            <a:ext cx="8001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. Is Yang Pei good a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English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819520"/>
            <a:ext cx="67057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Yes, but she has some difficulty with idio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36576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tch a cold”is something you do; “have a cold” is something you ha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952880"/>
            <a:ext cx="80769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ut down” is to let something fall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ut up” is to cut something into pie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57200"/>
            <a:ext cx="7925040" cy="36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Do you know the differe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betwe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tch a col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have a col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cut dow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cut u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95280" y="76212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二、课文学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6002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词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2362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ase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根据地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基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3048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evolutionary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革命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778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imited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限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464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apid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迅速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5334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rticle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文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76212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二、课文学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002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词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2362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raise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vt. &amp; 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赞扬；表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ncourage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vt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鼓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41148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orks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著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5029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ster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vt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精通；掌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听课文前四段录音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28600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1. Marx had to leave his homeland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in the year 18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when he was yo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when he was in his fif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6:47:41Z</dcterms:created>
  <dc:creator>User</dc:creator>
  <dc:description/>
  <dc:language>en-US</dc:language>
  <cp:lastModifiedBy>Zhang Lingdi</cp:lastModifiedBy>
  <dcterms:modified xsi:type="dcterms:W3CDTF">2003-06-10T09:33:18Z</dcterms:modified>
  <cp:revision>33</cp:revision>
  <dc:subject/>
  <dc:title>PowerPoint 演示文稿</dc:title>
</cp:coreProperties>
</file>